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3F23-432F-4BB5-96F9-4DB82D731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BF30-249E-4032-A335-54C9DCCD3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EB532-F0F7-4479-95D4-FB61EBE54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F45CF-AB64-4CF8-9D5D-455E95A7F5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08E9-1F4A-45FD-8453-0770E89584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18B82-4DA3-4480-94AE-C014A22E4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2C83-E95E-446F-91E4-C31F6D0B1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7079-A288-42FD-8A29-44756FAC8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D4A1-2F6A-496C-A63A-5B86D360F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B496-78EC-42BC-A5B6-64489F06F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C548-D12B-4200-89CB-0FACC5FE6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8271-AE52-41EF-9E2E-FD838F805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D18A9E4D-5E3F-431A-87D3-7C6B6DEE43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3E571502-A97C-4D6E-A3A3-0F0FD166F3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201200" y="4235400"/>
            <a:ext cx="424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uel n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digera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ses devoirs s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vieille machine à écr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429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B248A304-58C4-4DCC-AFEE-C010358EE4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uture tense instead of the imperative to make a command sound more forc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2743200"/>
          <a:ext cx="8229600" cy="182880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ndra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 restaurant avec nous ce soi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will come to the restaurant with us tonigh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rez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er le message à votre professeu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’ll pass along the message to your teache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BC6EF24A-63B2-4843-BE69-276A928DB6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ès 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 soon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verb in the future tense if the action takes place in the future. The verb in the main clause should be in the future or the imper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0120" y="3002040"/>
          <a:ext cx="8001000" cy="2711520"/>
        </p:xfrm>
        <a:graphic>
          <a:graphicData uri="http://schemas.openxmlformats.org/drawingml/2006/table">
            <a:tbl>
              <a:tblPr/>
              <a:tblGrid>
                <a:gridCol w="1523880"/>
                <a:gridCol w="2971800"/>
                <a:gridCol w="350532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MAIN CLAUSE: FUTURE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R IMPE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ès q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urez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brevet,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pourrez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re votre inventio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sera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l’ovni,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pos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questions aux extraterrestres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6D1CB43F-0DF0-45C7-BD7C-AEDDAC183C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kind of structure can be used with the conjun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sitôt 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 soon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rs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t 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Note that in English, the verb following them is most often in the present t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3540240"/>
          <a:ext cx="8686800" cy="1828800"/>
        </p:xfrm>
        <a:graphic>
          <a:graphicData uri="http://schemas.openxmlformats.org/drawingml/2006/table">
            <a:tbl>
              <a:tblPr/>
              <a:tblGrid>
                <a:gridCol w="4114800"/>
                <a:gridCol w="45720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vous recevron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sitôt 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s arriverez au laboratoi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ill welcome you as soon as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arrive at the laborator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t qu’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s seront curieux, les astronomes étudieront l’origine de l’unive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 long as they’re curious, astronomers will study the universe’s origi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55674272-63AA-4DED-9DFA-53C4844C4A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lk about events that might occur in the future, us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..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nstruction. Use the present tense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use 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pro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si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imperati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clause. Remember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o bec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’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768840"/>
          <a:ext cx="8381880" cy="2011320"/>
        </p:xfrm>
        <a:graphic>
          <a:graphicData uri="http://schemas.openxmlformats.org/drawingml/2006/table">
            <a:tbl>
              <a:tblPr/>
              <a:tblGrid>
                <a:gridCol w="4343400"/>
                <a:gridCol w="4038480"/>
              </a:tblGrid>
              <a:tr h="2014200">
                <a:tc>
                  <a:txBody>
                    <a:bodyPr lIns="90000" rIns="365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’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y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film intéressant à la télé ce soir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le-moi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there’s an interesting movie on TV tonight, tell m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36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ïcha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hèt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appareil numérique, elle m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a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n appareil traditionne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Aïcha buys a digital camera, she’ll give me her traditional camera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9F5E17C1-7142-482B-ADDF-44A3AE1EC7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06440" indent="-29196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learned to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to say that something is going to happen in the immediate future (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pro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To talk about something that will happen further ahead in time, us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si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5"/>
          <p:cNvSpPr/>
          <p:nvPr/>
        </p:nvSpPr>
        <p:spPr>
          <a:xfrm>
            <a:off x="685800" y="3276720"/>
            <a:ext cx="7924680" cy="228600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6"/>
          <p:cNvSpPr/>
          <p:nvPr/>
        </p:nvSpPr>
        <p:spPr>
          <a:xfrm>
            <a:off x="685800" y="4191120"/>
            <a:ext cx="7924680" cy="20574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7"/>
          <p:cNvSpPr/>
          <p:nvPr/>
        </p:nvSpPr>
        <p:spPr>
          <a:xfrm>
            <a:off x="685800" y="3781440"/>
            <a:ext cx="7924680" cy="91440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14400" y="3352680"/>
          <a:ext cx="7467480" cy="2895840"/>
        </p:xfrm>
        <a:graphic>
          <a:graphicData uri="http://schemas.openxmlformats.org/drawingml/2006/table">
            <a:tbl>
              <a:tblPr/>
              <a:tblGrid>
                <a:gridCol w="3305160"/>
                <a:gridCol w="416232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 proc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simp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184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is effac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ernière phrase avant de sauvegarder mon essai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going to erase the last sentence before saving my essa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acer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photos de l’appareil après les avoir imprimé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will erase the pictures on the camera after printing the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0BF84D1D-D6F6-41E9-BCFC-BFEED16177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the simple future of regul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by adding these endings to the infinitive. For regul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, tak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 the infinitive before adding the e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685800" y="2895480"/>
            <a:ext cx="7924680" cy="227484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685800" y="3798720"/>
            <a:ext cx="7924680" cy="24498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3389400"/>
            <a:ext cx="7924680" cy="91440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2960640"/>
          <a:ext cx="8001000" cy="3287880"/>
        </p:xfrm>
        <a:graphic>
          <a:graphicData uri="http://schemas.openxmlformats.org/drawingml/2006/table">
            <a:tbl>
              <a:tblPr/>
              <a:tblGrid>
                <a:gridCol w="1371600"/>
                <a:gridCol w="1981080"/>
                <a:gridCol w="2286000"/>
                <a:gridCol w="236232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388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/j’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/el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/ell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z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o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z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o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z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o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B4AB8969-16CD-46D6-8403-E7C8FFD94C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ing-chan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undergo the same change in the future tense as they do in the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2692440"/>
          <a:ext cx="7162920" cy="2870280"/>
        </p:xfrm>
        <a:graphic>
          <a:graphicData uri="http://schemas.openxmlformats.org/drawingml/2006/table">
            <a:tbl>
              <a:tblPr/>
              <a:tblGrid>
                <a:gridCol w="3276720"/>
                <a:gridCol w="3886200"/>
              </a:tblGrid>
              <a:tr h="287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prom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è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mplo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ppe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l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roje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t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prom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è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mplo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ppe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l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roje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t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81" descr="p101"/>
          <p:cNvPicPr/>
          <p:nvPr/>
        </p:nvPicPr>
        <p:blipFill>
          <a:blip r:embed="rId1"/>
          <a:stretch/>
        </p:blipFill>
        <p:spPr>
          <a:xfrm>
            <a:off x="2895480" y="2692440"/>
            <a:ext cx="83844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F71FF541-1F99-47A7-A8FB-9004F45D88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with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infinitive ending, such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é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éfé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épé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o not undergo a spelling change in the future t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3200400"/>
          <a:ext cx="7619760" cy="114300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ggérer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à Fatih qu’il reste chez nou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ill suggest to Fatih that he stay with u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FB141454-A569-49BF-8CCE-885CF3198D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on verbs have an irregular future stem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future endings to these 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2120" y="2590920"/>
          <a:ext cx="7772400" cy="35812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447920"/>
                <a:gridCol w="1295280"/>
                <a:gridCol w="1219320"/>
                <a:gridCol w="1371600"/>
              </a:tblGrid>
              <a:tr h="406440">
                <a:tc>
                  <a:txBody>
                    <a:bodyPr lIns="0" rIns="90000" tIns="46800" bIns="46800" anchor="t">
                      <a:noAutofit/>
                    </a:bodyPr>
                    <a:p>
                      <a:pPr marL="114480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0" rIns="90000" tIns="46800" bIns="46800" anchor="t">
                      <a:noAutofit/>
                    </a:bodyPr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o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u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cour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dev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enver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se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fe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faud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mour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i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u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cour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dev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nver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se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fe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faud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our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u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l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pleuv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pour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recev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sau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tiend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vaud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viend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ver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vou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leuv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our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recev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sau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tiend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vaud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iend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er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oud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587A0903-FEF7-47ED-9E3C-3811120CB0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23960" y="1571760"/>
          <a:ext cx="7696080" cy="327168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0284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86884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9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rcevo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a future stem like that of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voi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Similarly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n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lik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i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en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lik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i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percevrai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reviendrez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maintiendro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0A86C224-A589-4E89-90F5-0149E6B992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in the simple future are usually translated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3520" y="2743200"/>
          <a:ext cx="8229600" cy="2946240"/>
        </p:xfrm>
        <a:graphic>
          <a:graphicData uri="http://schemas.openxmlformats.org/drawingml/2006/table">
            <a:tbl>
              <a:tblPr/>
              <a:tblGrid>
                <a:gridCol w="4190760"/>
                <a:gridCol w="4038840"/>
              </a:tblGrid>
              <a:tr h="29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r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lecteur de DVD dans notre chamb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ill have a DVD player in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 ro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jour, 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urra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promener sur la planète Ma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day, we will be able to walk on Ma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DFB83146-7D7C-417B-BED9-8B74835DBD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23960" y="1571760"/>
          <a:ext cx="7696080" cy="399096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356580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poken French, the present tense is used sometimes to express future actions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nous retrouvons au cybercaf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meeting at the cybercaf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he present tense of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o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[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to express an action that you suppose will happ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oît doit arriver dans les prochains jou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oît must be arriving in the next few day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6-02-23T13:55:25Z</dcterms:modified>
  <cp:revision>194</cp:revision>
  <dc:subject>D'accord! 3 • Leçon 7: Les sciences et la technologie</dc:subject>
  <dc:title>7.2 The futur simple</dc:title>
</cp:coreProperties>
</file>